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C83-A597-4912-8450-3CEAD325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50B-A65E-4D83-805B-3C6D87EE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13A-F0FE-4688-8028-21338C8A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998-8222-4BC2-A459-E5D8ADB9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6D7-1BCA-4988-9DDA-7DBCC572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F07-0A6A-4E28-A813-6217CD25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53F-D067-43CB-A844-5BAF5EE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A26-F779-4B7B-87BB-C762BA60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A02-43A6-4A20-ACC7-D5B48ABD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B4B-4FF7-48F0-B99B-6881679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CA1-E7AB-4AD1-B7CE-4ABF796B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691-58D3-43E2-A3A9-E8B6D542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1FC2-4334-47F1-88B1-8B482B61E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Guide 10-5     Salts in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33520" y="10666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Remember, a salt consists of an anion from an acid an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ion from a base.  It forms as a result of neut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3352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sometimes salts can be acidic or basic, not just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33520" y="2666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t Hydro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85800" y="30481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cations or anions of a dissociated salt remove hydrogen ions from or donate hydrogen ions to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066680" y="38098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solutions containing hydrolyzing salts can be acidic or basic depending on the direction  of the hydrogen ion trans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1371600" y="48769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se hyrdolizing salts usually come from a strong acid and weak base or vic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salts that make acidic solutions have + ions which give off protons to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80880" y="1523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salts that produce basic solutions have – ions that attract protons from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80880" y="2286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if a salt solution is acidic or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76212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ong aci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bas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eutr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76212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ong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eak base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idic 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62120" y="3657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+ 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rong Base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380880" y="4038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457200" y="4343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a solution in which the pH remains relatively constant when small amounts of acid or base ar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buffers are solutions of a weak acid and one of its salts, or a solution of a weak base and one of its sa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99072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why buffers?  To resist drastic change in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609480" y="1981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now buffers can only resist change so much.  The key to buffers is the resistanc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mall amou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dded acids and ba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066680" y="3048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oo much acid or base is added, the buffer’s ability to “buff”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371600" y="3809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the amount of acid or base that can be added to a buffer solution before a significant change in pH occurs = buffer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523880" y="50292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:  need buffers to maintain human blood pH within a very narrow range (pH 7.35 – 7.4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2:04:25Z</dcterms:created>
  <dc:creator>John Pakledinaz</dc:creator>
  <dc:description/>
  <dc:language>en-US</dc:language>
  <cp:lastModifiedBy>Farwell Area Schools</cp:lastModifiedBy>
  <dcterms:modified xsi:type="dcterms:W3CDTF">2009-02-17T14:45:28Z</dcterms:modified>
  <cp:revision>9</cp:revision>
  <dc:subject/>
  <dc:title>Note Guide 10-5     Salts in Solution</dc:title>
</cp:coreProperties>
</file>